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jpeg" ContentType="image/jpeg"/>
  <Override PartName="/ppt/media/image24.wmf" ContentType="image/x-wmf"/>
  <Override PartName="/ppt/media/image28.jpeg" ContentType="image/jpeg"/>
  <Override PartName="/ppt/media/image7.jpeg" ContentType="image/jpeg"/>
  <Override PartName="/ppt/media/image11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3.wmf" ContentType="image/x-wmf"/>
  <Override PartName="/ppt/media/image4.png" ContentType="image/png"/>
  <Override PartName="/ppt/media/image17.wmf" ContentType="image/x-wmf"/>
  <Override PartName="/ppt/media/image20.jpeg" ContentType="image/jpeg"/>
  <Override PartName="/ppt/media/image30.jpeg" ContentType="image/jpeg"/>
  <Override PartName="/ppt/media/image31.png" ContentType="image/png"/>
  <Override PartName="/ppt/media/image32.jpeg" ContentType="image/jpeg"/>
  <Override PartName="/ppt/media/image26.jpeg" ContentType="image/jpeg"/>
  <Override PartName="/ppt/media/image16.wmf" ContentType="image/x-wmf"/>
  <Override PartName="/ppt/media/image33.png" ContentType="image/png"/>
  <Override PartName="/ppt/media/image3.png" ContentType="image/png"/>
  <Override PartName="/ppt/media/image12.png" ContentType="image/png"/>
  <Override PartName="/ppt/media/image23.jpeg" ContentType="image/jpeg"/>
  <Override PartName="/ppt/media/image18.wmf" ContentType="image/x-wmf"/>
  <Override PartName="/ppt/media/image2.jpeg" ContentType="image/jpeg"/>
  <Override PartName="/ppt/media/image21.wmf" ContentType="image/x-wmf"/>
  <Override PartName="/ppt/media/image6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9.png" ContentType="image/png"/>
  <Override PartName="/ppt/media/image22.jpeg" ContentType="image/jpeg"/>
  <Override PartName="/ppt/media/image14.png" ContentType="image/png"/>
  <Override PartName="/ppt/media/image19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365E-5D1C-472B-A7FA-DE80A4FB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64E7-CFE1-4DD3-BD89-F632C769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471CA-2A21-4BF1-8323-6AF12383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4F958-BC46-47F1-ACBD-766C74D7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88C04-1C45-4080-9F91-5EA0742D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1A7CD-04C1-46A8-A4CC-29D7ECB3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2072F-41D4-45AE-9CDD-B1909916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67C15-C29B-4435-A63F-3D7791E9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DE298-5BE8-462B-A907-ADED33E5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0B2FC-C935-49BC-9720-7B9F861A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9015E-3D2D-4888-BD74-103DA03F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E6DA7-7857-4717-8CEA-B9501657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8517-5F8D-497F-ACC6-A72D0BFE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44191-F204-42CD-8966-3D72A099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51F7F-0A0A-410E-95C1-33E2D361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08907-C5C7-4DAC-ABDC-BB238CD2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F33CE-6889-414D-BC4B-77067D55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CDE20-A533-4AA4-8CA8-12A01451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134C4-9138-4DF0-AA9D-E365FE8A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01C17-9CA3-4FEF-93D1-5A08C311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F137C-ABC3-4968-9416-B30794CE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9E8DB-77D6-4BB8-A45E-C33D5282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11DEF-E556-43F4-A299-ECB27B70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4553-9F5E-4EF2-8A6C-150273AA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EF74B-46E1-49CD-A329-872CC0B0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93127-5D84-4B2D-92FC-22B61DB4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4B7BA-3648-40E2-82FC-49A9DE35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76CB3-FAEF-402B-80CB-12085A18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C4E4E-E106-44F4-A909-2267CA77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96AEF-43E0-48EF-B1ED-97CCD176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5193B-E4D1-4779-A30D-23C5AD43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92DDA-9356-4788-81B0-E61126ED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94852-5AC5-431E-AAD9-A12FCB10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35541-2B87-47B8-AC48-48E0B57A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3D44-1517-4C42-A580-DF6D77DB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F3D12-A7F0-4624-B7DC-422A94D0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4FF55-1827-4117-92F3-9B752510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AF1D9-FCFD-4BAE-AF73-9152A4B4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C412-A01B-448E-926E-938E6A79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964A-D9E3-4A52-A813-245B9383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80BC-6685-4545-A2F5-D1A62C69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0C5C-2598-4C4B-8BAA-36281DB0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37B0-C542-45F2-B3BA-A8EB42E2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8779-A8BA-4DF7-A54E-72FA8284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043B-ED04-4AA6-ACF1-0B533203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1768-2CE3-4C11-98D8-39311C1E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8CE6-5D3C-4F53-AE56-A36F4F46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5179-F160-49CE-874E-93BE4797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92F2-1D13-4736-878F-394BCD8C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F847-428B-44DF-A99C-B05F33E0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62CD9-C9AC-4FEF-A08B-4EEC0849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1564D-2600-4772-A6AE-2602AC92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AC6E1-B589-4BFC-B539-2833B2A9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0DD44-03FD-4E06-B5DA-DFEFAAF7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35655-BB01-4103-93B6-45B96671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0D54-5E3F-423F-BAB6-15FEE68A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6E7E5-1C18-4905-BB10-4AD40946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FE9A4-7DE9-44FC-9975-B87A4B56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8D9FD-0DEC-4E45-8AB0-9B026808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0A217-54D2-4250-A10F-386A0E6D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D44D9-9CDF-41B6-9D03-5CD3B973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1D515-A586-41A2-9F97-5C778DDE5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CBF37-E15E-4D43-94C0-A6032D1E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A39A2-2309-4274-A017-AB3F1A86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76635-A17F-461D-959F-E84A2A84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444E1-F0F8-4BFF-960E-41356B90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E958-8963-4AEC-8E30-56560673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0BED0-F72E-4EC4-9511-38D4ED4A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21634-36C5-4029-933E-E08E8F24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D31A7-EFA0-439C-AEAE-124CFAD1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F9424-8542-403A-9204-AD75CDD1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0B10A-D707-434B-8F1F-0B426711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F5FAE-5B7D-42FC-B044-F2F0F4CF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78DCC-330F-4DA5-93E5-D09C0A0A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7CA65-0053-4F3B-B14E-1FC0491B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8009B-5630-4BED-85B0-8B4384D3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C5820-BA34-4ABE-8606-DC2F922C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3829-B313-476F-957B-9CC2D3AB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C8015-CDB5-4B3F-BF5A-E0F2262F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4D92A-671D-49E8-A288-977B5F5E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FB57F-0BD6-48D4-AB18-E514A7F3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88AAF-9C6D-4055-AC11-47A12156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4B434-2E8B-4E0D-94AB-7BC144FA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AEAF1-E466-4B29-910E-DE45D284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6F2CE-1465-4D4E-BC10-EB37F943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EDEA8-AA40-4BE4-A4A5-FCA8F15D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1A479-FB14-4281-A0A2-158AAAC6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2B7BE-2615-498B-BF35-147DE4765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592-8601-4268-9F66-7878C0F4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B4AD1-28A8-4383-882A-1E87D475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9445D-BB8D-4C9E-943E-194D9C9E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4AAAC-2E19-4233-958E-C0BDD616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60431-AECE-4D48-9DDD-1EB905BC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9A5A0-37F1-4681-9549-893EC992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7D53C-C103-4F97-A0C5-7B9C627D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F2FFA-D24A-472B-8060-379B8091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8AAA1-5EC9-40DE-9013-A3897880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B7F72-4FDC-41ED-A473-FE3A4BE7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F573C-B38E-4F92-BB4B-BAE26A6A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ACE8-CB7D-4530-A682-3B833F49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DFF8E-BC95-45C3-BFD2-46E1E316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E036C-D5BD-4967-AE84-80B0BADB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917E6-384B-496C-B6D2-889AF3CC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1AC79-3689-4B05-8127-F3820229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3C4BD-A8EA-4EBF-9268-99F522A5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58C99-6B3C-4A9D-984B-7618D0FA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2D430-97E3-4F8C-AEF6-CBB69A44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BC1B2-55DE-4F20-9C14-BC38D1F3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2D920-771E-4EFF-8485-8C923540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4436C-2B04-462E-97C6-753B9A70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3D76-A872-4E2B-8A82-F9CC0F8E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C2D60-AA3B-4ADE-9A25-0AD93F6D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4FBC6-2DBF-49D8-8AA8-B47C2684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30F46-D7BA-4D2C-8A14-3654E764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A0CAA-D800-4FD1-B6E5-D81540A7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FE5E0-823D-48C6-AC73-303DBC6A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F0E2E-6CCE-4986-80DE-DD679B0C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73A2E-832B-4A7F-BD0D-FC96DE72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0F3E1-5FC9-43B2-BD62-0051A14E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E6B84-425F-48FD-9D80-0750AA44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E912C-4105-470B-A7ED-C6892980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E2CA-10AA-4809-90E9-63265A39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6F979-DBFD-4F5E-AA89-CEC23176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88A04-1EBC-4863-8F78-AF7CD506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60063-C525-4205-B3EB-9C23204D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C4FBE-5BF3-4098-8210-BF537012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F8294-BA9C-4B3F-A92E-C9884A59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EFE68-54D8-40A6-9919-CC9DF8B2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FEE31-6F50-4DB6-AA34-2A467B39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95386-B2F1-4AFE-8769-B1424FB9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93A3B-566F-4FE8-A679-B8237304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750EF-A8A3-4618-A945-B363C939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81280" y="274320"/>
            <a:ext cx="69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81280" y="1600200"/>
            <a:ext cx="69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ff"/>
              </a:buClr>
              <a:buFont typeface="Arial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78128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7332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63840" y="6244920"/>
            <a:ext cx="1722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0FC1-1C61-4D3F-A8CE-6805227FB3C5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6484-C835-427D-82D0-F832A6A5F359}" type="slidenum">
              <a:rPr b="0" lang="zh-TW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ftr" idx="3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1A65-1A81-4679-8605-EB7880376BE2}" type="slidenum">
              <a:rPr b="0" lang="zh-TW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Times New Roman"/>
                <a:ea typeface="MS P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66"/>
                </a:solidFill>
                <a:latin typeface="Times New Roman"/>
                <a:ea typeface="MS P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66"/>
                </a:solidFill>
                <a:latin typeface="Times New Roman"/>
                <a:ea typeface="MS P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66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DA1C-5BE5-4E20-B70D-3F175BFFEE33}" type="slidenum">
              <a:rPr b="0" lang="ja-JP" sz="1400" spc="-1" strike="noStrike">
                <a:solidFill>
                  <a:srgbClr val="000066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DE69-E44C-44D8-AAF0-1C89E81E102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31F1-64F1-4382-9632-15364D07DBA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4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5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785F-37A0-4EFA-B376-8D4304354CA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206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08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213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219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223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7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31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E4D1-A29B-4894-837A-BDEC21BB1485}" type="slidenum">
              <a:rPr b="0" lang="zh-TW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90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91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305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309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313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317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321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164B-93DB-414A-B9FF-7766F3460EFF}" type="slidenum">
              <a:rPr b="0" lang="zh-TW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4a1d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654a1d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2"/>
          </p:nvPr>
        </p:nvSpPr>
        <p:spPr>
          <a:xfrm>
            <a:off x="2819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3"/>
          </p:nvPr>
        </p:nvSpPr>
        <p:spPr>
          <a:xfrm>
            <a:off x="4267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4"/>
          </p:nvPr>
        </p:nvSpPr>
        <p:spPr>
          <a:xfrm>
            <a:off x="73152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8301-84FA-4FCB-AA19-F3BD3F207D22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54a1d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654a1d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25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26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7F6C-EC01-4268-8BBD-985FCF618105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6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4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18920" y="1628640"/>
            <a:ext cx="5832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戲劇元素在語文教學上的應用</a:t>
            </a:r>
            <a:br>
              <a:rPr sz="4000"/>
            </a:br>
            <a:br>
              <a:rPr sz="4000"/>
            </a:br>
            <a:r>
              <a:rPr b="0" lang="zh-TW" sz="2300" spc="-1" strike="noStrike">
                <a:solidFill>
                  <a:srgbClr val="000000"/>
                </a:solidFill>
                <a:latin typeface="標楷體"/>
                <a:ea typeface="標楷體"/>
              </a:rPr>
              <a:t>司徒秀薇</a:t>
            </a:r>
            <a:br>
              <a:rPr sz="2300"/>
            </a:br>
            <a:r>
              <a:rPr b="0" lang="zh-TW" sz="2300" spc="-1" strike="noStrike">
                <a:solidFill>
                  <a:srgbClr val="000000"/>
                </a:solidFill>
                <a:latin typeface="標楷體"/>
                <a:ea typeface="標楷體"/>
              </a:rPr>
              <a:t>香港教育學院</a:t>
            </a:r>
            <a:br>
              <a:rPr sz="2300"/>
            </a:br>
            <a:r>
              <a:rPr b="0" lang="zh-TW" sz="2300" spc="-1" strike="noStrike">
                <a:solidFill>
                  <a:srgbClr val="000000"/>
                </a:solidFill>
                <a:latin typeface="標楷體"/>
                <a:ea typeface="標楷體"/>
              </a:rPr>
              <a:t>17.05.200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標楷體"/>
                <a:ea typeface="標楷體"/>
              </a:rPr>
              <a:t>戲劇性遊戲（</a:t>
            </a:r>
            <a:r>
              <a:rPr b="0" lang="zh-TW" sz="4000" spc="-1" strike="noStrike">
                <a:solidFill>
                  <a:srgbClr val="3333ff"/>
                </a:solidFill>
                <a:latin typeface="標楷體"/>
                <a:ea typeface="標楷體"/>
              </a:rPr>
              <a:t>game</a:t>
            </a:r>
            <a:r>
              <a:rPr b="0" lang="zh-TW" sz="4000" spc="-1" strike="noStrike">
                <a:solidFill>
                  <a:srgbClr val="3333ff"/>
                </a:solidFill>
                <a:latin typeface="標楷體"/>
                <a:ea typeface="標楷體"/>
              </a:rPr>
              <a:t>）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6699"/>
                </a:solidFill>
                <a:latin typeface="標楷體"/>
                <a:ea typeface="標楷體"/>
              </a:rPr>
              <a:t>扮演的角色，在有計畫的引導下配合情境、目的，共同完成遊戲項目，以建立互信與自我控制能力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如：一二三紅綠燈</a:t>
            </a:r>
            <a:r>
              <a:rPr b="0" lang="zh-TW" sz="2800" spc="-1" strike="noStrike">
                <a:solidFill>
                  <a:srgbClr val="ff0000"/>
                </a:solidFill>
                <a:latin typeface="Verdana"/>
              </a:rPr>
              <a:t>、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猜猜看遊戲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7331040" y="0"/>
            <a:ext cx="181296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rcRect l="29285" t="19068" r="24365" b="46643"/>
          <a:stretch/>
        </p:blipFill>
        <p:spPr>
          <a:xfrm>
            <a:off x="0" y="0"/>
            <a:ext cx="3059280" cy="297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2" name=""/>
          <p:cNvSpPr/>
          <p:nvPr/>
        </p:nvSpPr>
        <p:spPr>
          <a:xfrm>
            <a:off x="0" y="6381720"/>
            <a:ext cx="248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朗文二下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3"/>
          <a:srcRect l="47569" t="53361" r="4866" b="12354"/>
          <a:stretch/>
        </p:blipFill>
        <p:spPr>
          <a:xfrm>
            <a:off x="2987640" y="1916280"/>
            <a:ext cx="3313080" cy="314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4" name="" descr=""/>
          <p:cNvPicPr/>
          <p:nvPr/>
        </p:nvPicPr>
        <p:blipFill>
          <a:blip r:embed="rId4"/>
          <a:srcRect l="18236" t="7179" r="33024" b="57137"/>
          <a:stretch/>
        </p:blipFill>
        <p:spPr>
          <a:xfrm>
            <a:off x="6227640" y="4048200"/>
            <a:ext cx="2916360" cy="280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61960" y="549000"/>
            <a:ext cx="77169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標楷體"/>
                <a:ea typeface="標楷體"/>
              </a:rPr>
              <a:t>想像（</a:t>
            </a:r>
            <a:r>
              <a:rPr b="0" lang="zh-TW" sz="4000" spc="-1" strike="noStrike">
                <a:solidFill>
                  <a:srgbClr val="3333ff"/>
                </a:solidFill>
                <a:latin typeface="標楷體"/>
                <a:ea typeface="標楷體"/>
              </a:rPr>
              <a:t>imagination</a:t>
            </a:r>
            <a:r>
              <a:rPr b="0" lang="zh-TW" sz="4000" spc="-1" strike="noStrike">
                <a:solidFill>
                  <a:srgbClr val="3333ff"/>
                </a:solidFill>
                <a:latin typeface="標楷體"/>
                <a:ea typeface="標楷體"/>
              </a:rPr>
              <a:t>）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137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以身體動作與思考結合起來的創造性活動，用以激發學習者的經驗與想像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例如：想像自己是一株植物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春風在面上輕輕拂過，輕柔舒服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夏日的炎風吹得又熱又難過、垂頭喪氣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在秋風追逐下，落葉轉個不停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冬日寒風下，光秃的樹幹瑟縮顫抖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99"/>
                </a:solidFill>
                <a:latin typeface="Verdana"/>
                <a:ea typeface="標楷體"/>
              </a:rPr>
              <a:t>青蛙坐在荷葉上休息</a:t>
            </a:r>
            <a:r>
              <a:rPr b="0" lang="zh-TW" sz="3200" spc="-1" strike="noStrike">
                <a:solidFill>
                  <a:srgbClr val="3333ff"/>
                </a:solidFill>
                <a:latin typeface="Verdana"/>
                <a:ea typeface="標楷體"/>
              </a:rPr>
              <a:t>（要學生閉起眼睛，做出青蛙在休息的樣子，還可以側睡、躺臥、趴著睡）</a:t>
            </a:r>
            <a:r>
              <a:rPr b="0" lang="zh-TW" sz="3200" spc="-1" strike="noStrike">
                <a:solidFill>
                  <a:srgbClr val="006699"/>
                </a:solidFill>
                <a:latin typeface="Verdana"/>
                <a:ea typeface="標楷體"/>
              </a:rPr>
              <a:t>，突然，一隻青蛙的荷葉震動一下</a:t>
            </a:r>
            <a:r>
              <a:rPr b="0" lang="zh-TW" sz="3200" spc="-1" strike="noStrike">
                <a:solidFill>
                  <a:srgbClr val="3333ff"/>
                </a:solidFill>
                <a:latin typeface="Verdana"/>
                <a:ea typeface="標楷體"/>
              </a:rPr>
              <a:t>（學生的身體要表現被震動一下的感覺）</a:t>
            </a:r>
            <a:r>
              <a:rPr b="0" lang="zh-TW" sz="3200" spc="-1" strike="noStrike">
                <a:solidFill>
                  <a:srgbClr val="006699"/>
                </a:solidFill>
                <a:latin typeface="Verdana"/>
                <a:ea typeface="標楷體"/>
              </a:rPr>
              <a:t>，然後竟然往上飛起來</a:t>
            </a:r>
            <a:r>
              <a:rPr b="0" lang="zh-TW" sz="3200" spc="-1" strike="noStrike">
                <a:solidFill>
                  <a:srgbClr val="3333ff"/>
                </a:solidFill>
                <a:latin typeface="Verdana"/>
                <a:ea typeface="標楷體"/>
              </a:rPr>
              <a:t>（學生從睡著的彎曲動作，變成身體伸直的狀況）</a:t>
            </a:r>
            <a:r>
              <a:rPr b="0" lang="zh-TW" sz="3200" spc="-1" strike="noStrike">
                <a:solidFill>
                  <a:srgbClr val="006699"/>
                </a:solidFill>
                <a:latin typeface="Verdana"/>
                <a:ea typeface="標楷體"/>
              </a:rPr>
              <a:t>，接著，其他的青蛙，也陸陸續續乘著荷葉往上升。這群青蛙開始往鎮上飛，他們有的直飛，有的傾斜飛行，有的還像盪秋千似的左右飛行</a:t>
            </a:r>
            <a:r>
              <a:rPr b="0" lang="zh-TW" sz="3200" spc="-1" strike="noStrike">
                <a:solidFill>
                  <a:srgbClr val="3333ff"/>
                </a:solidFill>
                <a:latin typeface="Verdana"/>
                <a:ea typeface="標楷體"/>
              </a:rPr>
              <a:t>（學生可以表現各種姿態）</a:t>
            </a:r>
            <a:r>
              <a:rPr b="0" lang="zh-TW" sz="3200" spc="-1" strike="noStrike">
                <a:solidFill>
                  <a:srgbClr val="006699"/>
                </a:solidFill>
                <a:latin typeface="Verdana"/>
                <a:ea typeface="標楷體"/>
              </a:rPr>
              <a:t>。飛行的時候，驚動了一群烏鴉，讓烏鴉嘎嘎叫，驚慌失措的飛走！</a:t>
            </a:r>
            <a:r>
              <a:rPr b="0" lang="zh-TW" sz="3200" spc="-1" strike="noStrike">
                <a:solidFill>
                  <a:srgbClr val="3333ff"/>
                </a:solidFill>
                <a:latin typeface="Verdana"/>
                <a:ea typeface="標楷體"/>
              </a:rPr>
              <a:t>（讓學生演烏鴉，然後青蛙往烏鴉那兒飛去，害烏鴉嚇得四處飛散）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6699"/>
                </a:solidFill>
                <a:latin typeface="標楷體"/>
                <a:ea typeface="標楷體"/>
              </a:rPr>
              <a:t>大衛．威斯納</a:t>
            </a:r>
            <a:r>
              <a:rPr b="0" lang="zh-TW" sz="2200" spc="-1" strike="noStrike">
                <a:solidFill>
                  <a:srgbClr val="006699"/>
                </a:solidFill>
                <a:latin typeface="標楷體"/>
                <a:ea typeface="標楷體"/>
              </a:rPr>
              <a:t>(1994)</a:t>
            </a:r>
            <a:r>
              <a:rPr b="0" lang="zh-TW" sz="2200" spc="-1" strike="noStrike">
                <a:solidFill>
                  <a:srgbClr val="006699"/>
                </a:solidFill>
                <a:latin typeface="標楷體"/>
                <a:ea typeface="標楷體"/>
              </a:rPr>
              <a:t>：《瘋狂星期二》台北，格林文化事業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09600" y="117000"/>
            <a:ext cx="69264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ff"/>
                </a:solidFill>
                <a:latin typeface="Verdana"/>
                <a:ea typeface="標楷體"/>
              </a:rPr>
              <a:t>聲音與口語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280" y="981000"/>
            <a:ext cx="8388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6699"/>
                </a:solidFill>
                <a:latin typeface="Verdana"/>
                <a:ea typeface="標楷體"/>
              </a:rPr>
              <a:t>利用聲音（音效、胡言亂語）與口語的方式，增進學生運用適當的聲音與口語表達的能力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Verdana"/>
                <a:ea typeface="標楷體"/>
              </a:rPr>
              <a:t>如：聲音模仿、用自創的外星語推銷與翻譯、故事接龍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5292720" y="4653000"/>
            <a:ext cx="19083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2700360" y="1557360"/>
            <a:ext cx="56880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6699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006699"/>
                </a:solidFill>
                <a:latin typeface="標楷體"/>
                <a:ea typeface="標楷體"/>
              </a:rPr>
              <a:t>Spolin,V.</a:t>
            </a:r>
            <a:r>
              <a:rPr b="0" lang="zh-TW" sz="4000" spc="-1" strike="noStrike">
                <a:solidFill>
                  <a:srgbClr val="006699"/>
                </a:solidFill>
                <a:latin typeface="標楷體"/>
                <a:ea typeface="標楷體"/>
              </a:rPr>
              <a:t>著，區曼玲譯（</a:t>
            </a:r>
            <a:r>
              <a:rPr b="0" lang="zh-TW" sz="4000" spc="-1" strike="noStrike">
                <a:solidFill>
                  <a:srgbClr val="006699"/>
                </a:solidFill>
                <a:latin typeface="標楷體"/>
                <a:ea typeface="標楷體"/>
              </a:rPr>
              <a:t>1998</a:t>
            </a:r>
            <a:r>
              <a:rPr b="0" lang="zh-TW" sz="4000" spc="-1" strike="noStrike">
                <a:solidFill>
                  <a:srgbClr val="006699"/>
                </a:solidFill>
                <a:latin typeface="標楷體"/>
                <a:ea typeface="標楷體"/>
              </a:rPr>
              <a:t>）：《劇場遊戲指導手册》，台北，書林出版有限公司。</a:t>
            </a: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217476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425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7572"/>
                </a:solidFill>
                <a:latin typeface="標楷體"/>
                <a:ea typeface="標楷體"/>
              </a:rPr>
              <a:t>創作性戲劇</a:t>
            </a:r>
            <a:r>
              <a:rPr b="0" lang="zh-TW" sz="4800" spc="-1" strike="noStrike">
                <a:solidFill>
                  <a:srgbClr val="007572"/>
                </a:solidFill>
                <a:latin typeface="標楷體"/>
                <a:ea typeface="標楷體"/>
              </a:rPr>
              <a:t>(Creative Drama)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cc"/>
                </a:solidFill>
                <a:latin typeface="標楷體"/>
                <a:ea typeface="標楷體"/>
              </a:rPr>
              <a:t>在戲劇遊戲（初階活動）中，學生為參與者</a:t>
            </a:r>
            <a:r>
              <a:rPr b="0" lang="zh-TW" sz="3600" spc="-1" strike="noStrike">
                <a:solidFill>
                  <a:srgbClr val="0033cc"/>
                </a:solidFill>
                <a:latin typeface="標楷體"/>
                <a:ea typeface="標楷體"/>
              </a:rPr>
              <a:t>(Player)</a:t>
            </a:r>
            <a:r>
              <a:rPr b="0" lang="zh-TW" sz="3600" spc="-1" strike="noStrike">
                <a:solidFill>
                  <a:srgbClr val="0033cc"/>
                </a:solidFill>
                <a:latin typeface="標楷體"/>
                <a:ea typeface="標楷體"/>
              </a:rPr>
              <a:t>，但在創作性戲劇</a:t>
            </a:r>
            <a:r>
              <a:rPr b="0" lang="zh-TW" sz="3600" spc="-1" strike="noStrike">
                <a:solidFill>
                  <a:srgbClr val="0033cc"/>
                </a:solidFill>
                <a:latin typeface="標楷體"/>
                <a:ea typeface="標楷體"/>
              </a:rPr>
              <a:t>(</a:t>
            </a:r>
            <a:r>
              <a:rPr b="0" lang="zh-TW" sz="3600" spc="-1" strike="noStrike">
                <a:solidFill>
                  <a:srgbClr val="0033cc"/>
                </a:solidFill>
                <a:latin typeface="標楷體"/>
                <a:ea typeface="標楷體"/>
              </a:rPr>
              <a:t>進階活動</a:t>
            </a:r>
            <a:r>
              <a:rPr b="0" lang="zh-TW" sz="3600" spc="-1" strike="noStrike">
                <a:solidFill>
                  <a:srgbClr val="0033cc"/>
                </a:solidFill>
                <a:latin typeface="標楷體"/>
                <a:ea typeface="標楷體"/>
              </a:rPr>
              <a:t>)</a:t>
            </a:r>
            <a:r>
              <a:rPr b="0" lang="zh-TW" sz="3600" spc="-1" strike="noStrike">
                <a:solidFill>
                  <a:srgbClr val="0033cc"/>
                </a:solidFill>
                <a:latin typeface="標楷體"/>
                <a:ea typeface="標楷體"/>
              </a:rPr>
              <a:t>中，學生轉換為製作者</a:t>
            </a:r>
            <a:r>
              <a:rPr b="0" lang="zh-TW" sz="3600" spc="-1" strike="noStrike">
                <a:solidFill>
                  <a:srgbClr val="0033cc"/>
                </a:solidFill>
                <a:latin typeface="標楷體"/>
                <a:ea typeface="標楷體"/>
              </a:rPr>
              <a:t>(Playmaker)</a:t>
            </a:r>
            <a:r>
              <a:rPr b="0" lang="zh-TW" sz="3600" spc="-1" strike="noStrike">
                <a:solidFill>
                  <a:srgbClr val="0033cc"/>
                </a:solidFill>
                <a:latin typeface="標楷體"/>
                <a:ea typeface="標楷體"/>
              </a:rPr>
              <a:t>，活動中包含情節、人物、主題、對話、聲音韻律及其他特殊劇場效果。同時，學生亦為觀眾</a:t>
            </a:r>
            <a:r>
              <a:rPr b="0" lang="zh-TW" sz="3600" spc="-1" strike="noStrike">
                <a:solidFill>
                  <a:srgbClr val="0033cc"/>
                </a:solidFill>
                <a:latin typeface="標楷體"/>
                <a:ea typeface="標楷體"/>
              </a:rPr>
              <a:t>(Audience)</a:t>
            </a:r>
            <a:r>
              <a:rPr b="0" lang="zh-TW" sz="3600" spc="-1" strike="noStrike">
                <a:solidFill>
                  <a:srgbClr val="0033cc"/>
                </a:solidFill>
                <a:latin typeface="標楷體"/>
                <a:ea typeface="標楷體"/>
              </a:rPr>
              <a:t>，包含感受、反應及反省評析等能力學習。</a:t>
            </a:r>
            <a:r>
              <a:rPr b="0" lang="zh-TW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36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ff"/>
                </a:solidFill>
                <a:latin typeface="標楷體"/>
                <a:ea typeface="標楷體"/>
              </a:rPr>
              <a:t>模仿（</a:t>
            </a:r>
            <a:r>
              <a:rPr b="0" lang="zh-TW" sz="4800" spc="-1" strike="noStrike">
                <a:solidFill>
                  <a:srgbClr val="3333ff"/>
                </a:solidFill>
                <a:latin typeface="標楷體"/>
                <a:ea typeface="標楷體"/>
              </a:rPr>
              <a:t>Imitative movement</a:t>
            </a:r>
            <a:r>
              <a:rPr b="0" lang="zh-TW" sz="4800" spc="-1" strike="noStrike">
                <a:solidFill>
                  <a:srgbClr val="3333ff"/>
                </a:solidFill>
                <a:latin typeface="標楷體"/>
                <a:ea typeface="標楷體"/>
              </a:rPr>
              <a:t>）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137440" cy="45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33cc"/>
                </a:solidFill>
                <a:latin typeface="標楷體"/>
                <a:ea typeface="標楷體"/>
              </a:rPr>
              <a:t>透過觀察後，運用自己的理解與想像，以自己的肢體感官去再現一個目標物，以抓住模仿對象的形態和特徵，或模仿人物的口語內容或對話。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1154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7572"/>
                </a:solidFill>
                <a:latin typeface="Arial"/>
                <a:ea typeface="標楷體"/>
              </a:rPr>
              <a:t>《風喜歡和我玩》－讓學生藉由肢體動作，模仿各種物體被風吹的動作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333ff"/>
                </a:solidFill>
                <a:latin typeface="Arial"/>
                <a:ea typeface="標楷體"/>
              </a:rPr>
              <a:t>輕輕的吹動氣球。風把氣球吹得高高的，吹到樹上。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333ff"/>
                </a:solidFill>
                <a:latin typeface="Arial"/>
                <a:ea typeface="標楷體"/>
              </a:rPr>
              <a:t>把枕頭套吹得鼓鼓的，把床單吹得搖搖晃晃、圍兜兜的帶子也被他吹得打結了。衣夾吹走。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333ff"/>
                </a:solidFill>
                <a:latin typeface="Arial"/>
                <a:ea typeface="標楷體"/>
              </a:rPr>
              <a:t>搶走雨傘，雨傘開花。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333ff"/>
                </a:solidFill>
                <a:latin typeface="Arial"/>
                <a:ea typeface="標楷體"/>
              </a:rPr>
              <a:t>風只要在草地上頭跑來跑去。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333ff"/>
                </a:solidFill>
                <a:latin typeface="Arial"/>
                <a:ea typeface="標楷體"/>
              </a:rPr>
              <a:t>風箏吹得又高又遠。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333ff"/>
                </a:solidFill>
                <a:latin typeface="Arial"/>
                <a:ea typeface="標楷體"/>
              </a:rPr>
              <a:t>把肥皂泡吹得高高的，讓太陽為肥皂泡上塗上顏色。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333ff"/>
                </a:solidFill>
                <a:latin typeface="Arial"/>
                <a:ea typeface="標楷體"/>
              </a:rPr>
              <a:t>當樹葉掃成一座山。把樹葉吹散了，把灰塵吹到我的臉上。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333ff"/>
                </a:solidFill>
                <a:latin typeface="Arial"/>
                <a:ea typeface="標楷體"/>
              </a:rPr>
              <a:t>讓一片乾葉子飛過來。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89" name="" descr="書籍封面 (約13K)"/>
          <p:cNvPicPr/>
          <p:nvPr/>
        </p:nvPicPr>
        <p:blipFill>
          <a:blip r:embed="rId2"/>
          <a:stretch/>
        </p:blipFill>
        <p:spPr>
          <a:xfrm>
            <a:off x="6667560" y="2747880"/>
            <a:ext cx="1384200" cy="152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3324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ff"/>
                </a:solidFill>
                <a:latin typeface="標楷體"/>
                <a:ea typeface="標楷體"/>
              </a:rPr>
              <a:t>默劇</a:t>
            </a:r>
            <a:r>
              <a:rPr b="0" lang="zh-TW" sz="4800" spc="-1" strike="noStrike">
                <a:solidFill>
                  <a:srgbClr val="3333ff"/>
                </a:solidFill>
                <a:latin typeface="標楷體"/>
                <a:ea typeface="標楷體"/>
              </a:rPr>
              <a:t>(Pantomime)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090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33cc"/>
                </a:solidFill>
                <a:latin typeface="標楷體"/>
                <a:ea typeface="標楷體"/>
              </a:rPr>
              <a:t>以身體的姿態表情，傳達出思想、情緒與故事，來強化肢體表達能力，以擴大觀察、理解與思維的空間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如扮演地鐵車廂中的各式人等，從肢體表演看出他們的關係和職業。</a:t>
            </a:r>
            <a:r>
              <a:rPr b="0" lang="zh-TW" sz="4000" spc="-1" strike="noStrike">
                <a:solidFill>
                  <a:srgbClr val="0033cc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有關戲劇教育的幾個概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兒童戲劇</a:t>
            </a:r>
            <a:r>
              <a:rPr b="0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(Children Theat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教育劇場</a:t>
            </a:r>
            <a:r>
              <a:rPr b="0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(Theatre in Education, TI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教育戲劇</a:t>
            </a:r>
            <a:r>
              <a:rPr b="0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(Drama in Education, DI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創作性戲劇</a:t>
            </a:r>
            <a:r>
              <a:rPr b="0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(Creative Dram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7316640" y="6107040"/>
            <a:ext cx="1827360" cy="7509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3"/>
          <a:stretch/>
        </p:blipFill>
        <p:spPr>
          <a:xfrm>
            <a:off x="5508720" y="6107040"/>
            <a:ext cx="1827000" cy="7509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3635280" y="6107040"/>
            <a:ext cx="1827360" cy="7509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5"/>
          <a:stretch/>
        </p:blipFill>
        <p:spPr>
          <a:xfrm>
            <a:off x="1835280" y="6107040"/>
            <a:ext cx="1827000" cy="75096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6"/>
          <a:stretch/>
        </p:blipFill>
        <p:spPr>
          <a:xfrm>
            <a:off x="0" y="6107040"/>
            <a:ext cx="182736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64263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ff"/>
                </a:solidFill>
                <a:latin typeface="標楷體"/>
                <a:ea typeface="標楷體"/>
              </a:rPr>
              <a:t>角色扮演</a:t>
            </a:r>
            <a:r>
              <a:rPr b="0" lang="zh-TW" sz="4800" spc="-1" strike="noStrike">
                <a:solidFill>
                  <a:srgbClr val="3333ff"/>
                </a:solidFill>
                <a:latin typeface="標楷體"/>
                <a:ea typeface="標楷體"/>
              </a:rPr>
              <a:t>(Role Play)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280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33cc"/>
                </a:solidFill>
                <a:latin typeface="Arial"/>
                <a:ea typeface="標楷體"/>
              </a:rPr>
              <a:t>在語文教學中十分普遍，特別是故事類的文體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33cc"/>
                </a:solidFill>
                <a:latin typeface="Arial"/>
                <a:ea typeface="標楷體"/>
              </a:rPr>
              <a:t>教師讓學生扮演課文中的角色，透過對角色的個性、情緒、表情、動作、背景經驗等內外在的揣摩，理解角色所處的情境與問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65023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ff"/>
                </a:solidFill>
                <a:latin typeface="標楷體"/>
                <a:ea typeface="標楷體"/>
              </a:rPr>
              <a:t>說故事</a:t>
            </a:r>
            <a:r>
              <a:rPr b="0" lang="zh-TW" sz="4800" spc="-1" strike="noStrike">
                <a:solidFill>
                  <a:srgbClr val="3333ff"/>
                </a:solidFill>
                <a:latin typeface="標楷體"/>
                <a:ea typeface="標楷體"/>
              </a:rPr>
              <a:t>(Storytelling)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136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33cc"/>
                </a:solidFill>
                <a:latin typeface="標楷體"/>
                <a:ea typeface="標楷體"/>
              </a:rPr>
              <a:t>以既有的文學故事、或創作的引發點和建議，由教師引導，藉由討論、表演構建屬於自己的故事，以激勵想像、邏輯發展與組織表達之能力。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778356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ff"/>
                </a:solidFill>
                <a:latin typeface="標楷體"/>
                <a:ea typeface="標楷體"/>
              </a:rPr>
              <a:t>即興表演</a:t>
            </a:r>
            <a:r>
              <a:rPr b="0" lang="zh-TW" sz="4800" spc="-1" strike="noStrike">
                <a:solidFill>
                  <a:srgbClr val="3333ff"/>
                </a:solidFill>
                <a:latin typeface="標楷體"/>
                <a:ea typeface="標楷體"/>
              </a:rPr>
              <a:t>(Improvisation)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cc"/>
                </a:solidFill>
                <a:latin typeface="標楷體"/>
                <a:ea typeface="標楷體"/>
              </a:rPr>
              <a:t>可分為動作、語言、造型的即興，沒有特定的文本與對話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cc"/>
                </a:solidFill>
                <a:latin typeface="標楷體"/>
                <a:ea typeface="標楷體"/>
              </a:rPr>
              <a:t>教師需把握戲劇衝突的基本要素，包含角色內外在的衝突、情節的衝突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如即興表演〈北風和太陽〉故事中的人，被風吹得緊抓住衣服。</a:t>
            </a:r>
            <a:r>
              <a:rPr b="0" lang="zh-TW" sz="3600" spc="-1" strike="noStrike">
                <a:solidFill>
                  <a:srgbClr val="0033cc"/>
                </a:solidFill>
                <a:latin typeface="標楷體"/>
                <a:ea typeface="標楷體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209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ff"/>
                </a:solidFill>
                <a:latin typeface="標楷體"/>
                <a:ea typeface="標楷體"/>
              </a:rPr>
              <a:t>偶戲與面具</a:t>
            </a:r>
            <a:br>
              <a:rPr sz="4800"/>
            </a:br>
            <a:r>
              <a:rPr b="0" lang="zh-TW" sz="4800" spc="-1" strike="noStrike">
                <a:solidFill>
                  <a:srgbClr val="3333ff"/>
                </a:solidFill>
                <a:latin typeface="標楷體"/>
                <a:ea typeface="標楷體"/>
              </a:rPr>
              <a:t>(Puppetry and Mask)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2520" y="2276640"/>
            <a:ext cx="8221680" cy="35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33cc"/>
                </a:solidFill>
                <a:latin typeface="標楷體"/>
                <a:ea typeface="標楷體"/>
              </a:rPr>
              <a:t>以製作、操作或表演偶具（傀儡）和面具，表演情境或故事。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7058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ff"/>
                </a:solidFill>
                <a:latin typeface="標楷體"/>
                <a:ea typeface="標楷體"/>
              </a:rPr>
              <a:t>戲劇扮演</a:t>
            </a:r>
            <a:r>
              <a:rPr b="0" lang="zh-TW" sz="4800" spc="-1" strike="noStrike">
                <a:solidFill>
                  <a:srgbClr val="3333ff"/>
                </a:solidFill>
                <a:latin typeface="標楷體"/>
                <a:ea typeface="標楷體"/>
              </a:rPr>
              <a:t>(Playmaking)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33cc"/>
                </a:solidFill>
                <a:latin typeface="標楷體"/>
                <a:ea typeface="標楷體"/>
              </a:rPr>
              <a:t>劇情的來源可由課文、故事、詩歌、日常生活事件或是自行編劇的方式產生，有明確的角色、對話與情節主題，並利用聲音音效及道具等，經由集體即興表演的方式呈現一齣劇。例如：故事劇場。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7164360" y="0"/>
            <a:ext cx="16923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rcRect l="9616" t="19116" r="2826" b="27118"/>
          <a:stretch/>
        </p:blipFill>
        <p:spPr>
          <a:xfrm>
            <a:off x="1403280" y="0"/>
            <a:ext cx="4429080" cy="357984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6012000" y="5516640"/>
            <a:ext cx="24112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故事時間</a:t>
            </a:r>
            <a:br>
              <a:rPr sz="2800"/>
            </a:b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朗文二上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2"/>
          <a:srcRect l="3055" t="13088" r="9349" b="38183"/>
          <a:stretch/>
        </p:blipFill>
        <p:spPr>
          <a:xfrm>
            <a:off x="1403280" y="3562200"/>
            <a:ext cx="450072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8598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教育戲劇（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Drama In Education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教育戲劇是一種實作的性質，重點在於課堂內的即興演出，以學生為中心，透過學生的角色扮演及參與，與教師一起行動，探索主題，發展事件，塑造並體驗人物，在創作中與不同的夥伴聯結、合作、完成任務，並使作品產生意義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標楷體"/>
                <a:ea typeface="標楷體"/>
              </a:rPr>
              <a:t>老師入戲（</a:t>
            </a:r>
            <a:r>
              <a:rPr b="0" lang="zh-TW" sz="4400" spc="-1" strike="noStrike">
                <a:solidFill>
                  <a:srgbClr val="3333ff"/>
                </a:solidFill>
                <a:latin typeface="標楷體"/>
                <a:ea typeface="標楷體"/>
              </a:rPr>
              <a:t>Teacher in role</a:t>
            </a:r>
            <a:r>
              <a:rPr b="0" lang="zh-TW" sz="4400" spc="-1" strike="noStrike">
                <a:solidFill>
                  <a:srgbClr val="3333ff"/>
                </a:solidFill>
                <a:latin typeface="標楷體"/>
                <a:ea typeface="標楷體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教師扮演課文或某情境中某個角色，在想像的世界中與學生一同商議問題，彼此對話，並適時提出問題，要求學生以角色身分回應，引發討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如教師扮演司機，並提出一些問題，或是告訴乘客他要罷工，請所有乘客下車，但車上有老弱婦孺，到底該怎辦？請同學來說明如何解決這些問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專家的外衣（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Mantle of the Expert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學生以專家顧問的角色出現，協助解決問題。需要聯想與創意，透過專家的角度去看待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並不強調專門知識，只要求學生專注探究某個議題，學習像專家一樣解決問題，藉此強調一種責任的概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學生扮演植物學家，想辦法保護香港的大樹，如都市的榕樹、林村的許願樹，使它們可以繼續生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定格扮演（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Tableaux/Still Image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229600" cy="48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以小組合作的方式，把故事或情境中的某個片段，用肢體營造出此停格畫面。可將一個故事分為數個片段畫面，而畫面與畫面之間，可由帶領者控制或是參與者自行轉換。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71280" y="620640"/>
            <a:ext cx="58323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0000"/>
                </a:solidFill>
                <a:latin typeface="Garamond"/>
                <a:ea typeface="標楷體"/>
              </a:rPr>
              <a:t>教育戲劇活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標楷體"/>
                <a:ea typeface="標楷體"/>
              </a:rPr>
              <a:t>戲劇遊戲（</a:t>
            </a:r>
            <a:r>
              <a:rPr b="0" lang="zh-TW" sz="4000" spc="-1" strike="noStrike">
                <a:solidFill>
                  <a:srgbClr val="3333ff"/>
                </a:solidFill>
                <a:latin typeface="標楷體"/>
                <a:ea typeface="標楷體"/>
              </a:rPr>
              <a:t>theatre games</a:t>
            </a:r>
            <a:r>
              <a:rPr b="0" lang="zh-TW" sz="4000" spc="-1" strike="noStrike">
                <a:solidFill>
                  <a:srgbClr val="3333ff"/>
                </a:solidFill>
                <a:latin typeface="標楷體"/>
                <a:ea typeface="標楷體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標楷體"/>
                <a:ea typeface="標楷體"/>
              </a:rPr>
              <a:t>創作性戲劇（</a:t>
            </a:r>
            <a:r>
              <a:rPr b="0" lang="zh-TW" sz="4000" spc="-1" strike="noStrike">
                <a:solidFill>
                  <a:srgbClr val="3333ff"/>
                </a:solidFill>
                <a:latin typeface="標楷體"/>
                <a:ea typeface="標楷體"/>
              </a:rPr>
              <a:t>Creative Drama</a:t>
            </a:r>
            <a:r>
              <a:rPr b="0" lang="zh-TW" sz="4000" spc="-1" strike="noStrike">
                <a:solidFill>
                  <a:srgbClr val="3333ff"/>
                </a:solidFill>
                <a:latin typeface="標楷體"/>
                <a:ea typeface="標楷體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標楷體"/>
                <a:ea typeface="標楷體"/>
              </a:rPr>
              <a:t>教育戲劇（</a:t>
            </a:r>
            <a:r>
              <a:rPr b="0" lang="zh-TW" sz="4000" spc="-1" strike="noStrike">
                <a:solidFill>
                  <a:srgbClr val="3333ff"/>
                </a:solidFill>
                <a:latin typeface="標楷體"/>
                <a:ea typeface="標楷體"/>
              </a:rPr>
              <a:t>Drama In Education</a:t>
            </a:r>
            <a:r>
              <a:rPr b="0" lang="zh-TW" sz="4000" spc="-1" strike="noStrike">
                <a:solidFill>
                  <a:srgbClr val="3333ff"/>
                </a:solidFill>
                <a:latin typeface="標楷體"/>
                <a:ea typeface="標楷體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80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標楷體"/>
                <a:ea typeface="標楷體"/>
              </a:rPr>
              <a:t>思路追蹤（</a:t>
            </a:r>
            <a:r>
              <a:rPr b="0" lang="zh-TW" sz="4400" spc="-1" strike="noStrike">
                <a:solidFill>
                  <a:srgbClr val="333399"/>
                </a:solidFill>
                <a:latin typeface="標楷體"/>
                <a:ea typeface="標楷體"/>
              </a:rPr>
              <a:t>Thought Tracking</a:t>
            </a:r>
            <a:r>
              <a:rPr b="0" lang="zh-TW" sz="4400" spc="-1" strike="noStrike">
                <a:solidFill>
                  <a:srgbClr val="333399"/>
                </a:solidFill>
                <a:latin typeface="標楷體"/>
                <a:ea typeface="標楷體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在靜止動作或雕塑等活動中，帶領者輕碰一位參與者的肩膀，請他說出所揣摩角色的內心想法與感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同學扮演醜小鴨，在被其他農場動物欺侮時停下來，教師問扮演者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84428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990099"/>
                </a:solidFill>
                <a:latin typeface="Arial"/>
                <a:ea typeface="標楷體"/>
              </a:rPr>
              <a:t>你現在的感受如何？為什麼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990099"/>
                </a:solidFill>
                <a:latin typeface="Arial"/>
                <a:ea typeface="標楷體"/>
              </a:rPr>
              <a:t>你為什麼要這樣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990099"/>
                </a:solidFill>
                <a:latin typeface="Arial"/>
                <a:ea typeface="標楷體"/>
              </a:rPr>
              <a:t>如果你向鴨媽媽投訴，你會怎樣說？你想她會有什麼反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990099"/>
                </a:solidFill>
                <a:latin typeface="Arial"/>
                <a:ea typeface="標楷體"/>
              </a:rPr>
              <a:t>你有什麼打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6"/>
          <a:srcRect l="7460" t="8754" r="2801" b="8079"/>
          <a:stretch/>
        </p:blipFill>
        <p:spPr>
          <a:xfrm>
            <a:off x="5219640" y="4724280"/>
            <a:ext cx="345600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99"/>
                </a:solidFill>
                <a:latin typeface="標楷體"/>
                <a:ea typeface="標楷體"/>
              </a:rPr>
              <a:t>坐針氈（</a:t>
            </a:r>
            <a:r>
              <a:rPr b="0" lang="zh-TW" sz="4800" spc="-1" strike="noStrike">
                <a:solidFill>
                  <a:srgbClr val="333399"/>
                </a:solidFill>
                <a:latin typeface="標楷體"/>
                <a:ea typeface="標楷體"/>
              </a:rPr>
              <a:t>Hot Seating</a:t>
            </a:r>
            <a:r>
              <a:rPr b="0" lang="zh-TW" sz="4800" spc="-1" strike="noStrike">
                <a:solidFill>
                  <a:srgbClr val="333399"/>
                </a:solidFill>
                <a:latin typeface="標楷體"/>
                <a:ea typeface="標楷體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136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扮演故事中的角色，坐在同學面前描述自己的兩難困境，請求其他人的協助，其他人也可以質詢與其角色相關的問題，藉此活動探索這角色的內心世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灰姑娘的後母：是否公平對待灰姑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狼：吃掉三隻小豬是否錯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86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  <a:ea typeface="標楷體"/>
              </a:rPr>
              <a:t>論壇劇場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Forum Theatre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353440" cy="51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在演出戲劇的過程中，在某個轉折點或衝突點停下來，詢問觀眾的意見和想法，再由演員演出，嘗試各種可能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Arial"/>
                <a:ea typeface="標楷體"/>
              </a:rPr>
              <a:t>父子騎驢進城，被旁觀的人批評，最後不知如何是好，教師喊停，讓同學討論如何解決會更好，並請同學上台扮演其中一角，企圖解決問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牆上的角色（</a:t>
            </a:r>
            <a:r>
              <a:rPr b="0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Role on the wall</a:t>
            </a:r>
            <a:r>
              <a:rPr b="0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將角色畫在黑板或紙上，讓學生根據此畫描述他所認為的該人物的性格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Arial"/>
                <a:ea typeface="標楷體"/>
              </a:rPr>
              <a:t>「朱莉長得挺胖，眼睛很小，嘴唇厚厚的，雙手又大又粗糙」</a:t>
            </a:r>
            <a:r>
              <a:rPr b="0" lang="zh-TW" sz="4000" spc="-1" strike="noStrike">
                <a:solidFill>
                  <a:srgbClr val="3333ff"/>
                </a:solidFill>
                <a:latin typeface="標楷體"/>
                <a:ea typeface="標楷體"/>
              </a:rPr>
              <a:t>〈朱莉〉，朗文四上</a:t>
            </a:r>
            <a:r>
              <a:rPr b="0" lang="zh-TW" sz="4000" spc="-1" strike="noStrike">
                <a:solidFill>
                  <a:srgbClr val="3333ff"/>
                </a:solidFill>
                <a:latin typeface="標楷體"/>
                <a:ea typeface="標楷體"/>
              </a:rPr>
              <a:t>(</a:t>
            </a:r>
            <a:r>
              <a:rPr b="0" lang="zh-TW" sz="4000" spc="-1" strike="noStrike">
                <a:solidFill>
                  <a:srgbClr val="3333ff"/>
                </a:solidFill>
                <a:latin typeface="標楷體"/>
                <a:ea typeface="標楷體"/>
              </a:rPr>
              <a:t>二</a:t>
            </a:r>
            <a:r>
              <a:rPr b="0" lang="zh-TW" sz="4000" spc="-1" strike="noStrike">
                <a:solidFill>
                  <a:srgbClr val="3333ff"/>
                </a:solidFill>
                <a:latin typeface="標楷體"/>
                <a:ea typeface="標楷體"/>
              </a:rPr>
              <a:t>)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99"/>
                </a:solidFill>
                <a:latin typeface="標楷體"/>
                <a:ea typeface="標楷體"/>
              </a:rPr>
              <a:t>雕塑（</a:t>
            </a:r>
            <a:r>
              <a:rPr b="0" lang="zh-TW" sz="4800" spc="-1" strike="noStrike">
                <a:solidFill>
                  <a:srgbClr val="333399"/>
                </a:solidFill>
                <a:latin typeface="標楷體"/>
                <a:ea typeface="標楷體"/>
              </a:rPr>
              <a:t>Sculpting</a:t>
            </a:r>
            <a:r>
              <a:rPr b="0" lang="zh-TW" sz="4800" spc="-1" strike="noStrike">
                <a:solidFill>
                  <a:srgbClr val="333399"/>
                </a:solidFill>
                <a:latin typeface="標楷體"/>
                <a:ea typeface="標楷體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針對課文或特定情境，由個人或小組集體去塑造表演者的肢體，協調姿勢和空間的關係，進入重要凝住的一刻，而呈現靜止的畫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80024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標楷體"/>
                <a:ea typeface="標楷體"/>
              </a:rPr>
              <a:t>集體畫</a:t>
            </a:r>
            <a:r>
              <a:rPr b="0" lang="zh-TW" sz="4400" spc="-1" strike="noStrike">
                <a:solidFill>
                  <a:srgbClr val="333399"/>
                </a:solidFill>
                <a:latin typeface="標楷體"/>
                <a:ea typeface="標楷體"/>
              </a:rPr>
              <a:t>(Collective Draw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79916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小組成員用即興雕塑或事前討論方式，用肢體逐步展現出一幅共同模擬的景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781280" y="404280"/>
            <a:ext cx="6905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標楷體"/>
                <a:ea typeface="標楷體"/>
              </a:rPr>
              <a:t>訪談（</a:t>
            </a:r>
            <a:r>
              <a:rPr b="0" lang="zh-TW" sz="4400" spc="-1" strike="noStrike">
                <a:solidFill>
                  <a:srgbClr val="333399"/>
                </a:solidFill>
                <a:latin typeface="標楷體"/>
                <a:ea typeface="標楷體"/>
              </a:rPr>
              <a:t>Interviews</a:t>
            </a:r>
            <a:r>
              <a:rPr b="0" lang="zh-TW" sz="4400" spc="-1" strike="noStrike">
                <a:solidFill>
                  <a:srgbClr val="333399"/>
                </a:solidFill>
                <a:latin typeface="標楷體"/>
                <a:ea typeface="標楷體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學生扮演某個人物，由教師或同學以記者或是某種身分，訪談學生對事件的看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可將訪談的內容撰寫下來，並以主播或記者會的方式，向全班展現成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由教師扮演醜小鴨遇到的天鵝，以過來人身分與醜小鴨分享成長的遭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Arial"/>
                <a:ea typeface="標楷體"/>
              </a:rPr>
              <a:t>詢問醜小鴨被其他動物欺負時的感覺，對牠們有什麼評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Arial"/>
                <a:ea typeface="標楷體"/>
              </a:rPr>
              <a:t>醜小鴨怎樣看牠的養母鴨媽媽？牠希望尋找生母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Arial"/>
                <a:ea typeface="標楷體"/>
              </a:rPr>
              <a:t>醜小鴨在幾乎凍僵時，有想過放棄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5"/>
          <a:stretch/>
        </p:blipFill>
        <p:spPr>
          <a:xfrm>
            <a:off x="5148360" y="4653000"/>
            <a:ext cx="2950920" cy="195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781280" y="274320"/>
            <a:ext cx="69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Arial"/>
                <a:ea typeface="標楷體"/>
              </a:rPr>
              <a:t>圖片與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643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運用圖片或照片等素材，引出一個戲劇的情境，改編或重述照片中的情境與事件，或是與圖片中的角色做互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標楷體"/>
                <a:ea typeface="標楷體"/>
              </a:rPr>
              <a:t>戲劇遊戲（</a:t>
            </a:r>
            <a:r>
              <a:rPr b="0" lang="zh-TW" sz="4400" spc="-1" strike="noStrike">
                <a:solidFill>
                  <a:srgbClr val="006666"/>
                </a:solidFill>
                <a:latin typeface="標楷體"/>
                <a:ea typeface="標楷體"/>
              </a:rPr>
              <a:t>theatre games</a:t>
            </a:r>
            <a:r>
              <a:rPr b="0" lang="zh-TW" sz="4400" spc="-1" strike="noStrike">
                <a:solidFill>
                  <a:srgbClr val="006666"/>
                </a:solidFill>
                <a:latin typeface="標楷體"/>
                <a:ea typeface="標楷體"/>
              </a:rPr>
              <a:t>）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6699"/>
                </a:solidFill>
                <a:latin typeface="標楷體"/>
                <a:ea typeface="標楷體"/>
              </a:rPr>
              <a:t>應用一些簡單的劇場元素或扮演的基礎技能來進行教學</a:t>
            </a:r>
            <a:r>
              <a:rPr b="0" lang="zh-TW" sz="2800" spc="-1" strike="noStrike">
                <a:solidFill>
                  <a:srgbClr val="006699"/>
                </a:solidFill>
                <a:latin typeface="Verdana"/>
              </a:rPr>
              <a:t>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6699"/>
                </a:solidFill>
                <a:latin typeface="標楷體"/>
                <a:ea typeface="標楷體"/>
              </a:rPr>
              <a:t>可培養學生的想像能力，提高心理的適應程度，集中活動焦點，使教師易於融入，整頓教學秩序與結束教學課程的內容等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7380360" y="4581360"/>
            <a:ext cx="160632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3240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標楷體"/>
                <a:ea typeface="標楷體"/>
              </a:rPr>
              <a:t>教學原則</a:t>
            </a:r>
            <a:endParaRPr b="1" lang="en-US" sz="3600" spc="-1" strike="noStrike">
              <a:solidFill>
                <a:srgbClr val="654a1d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1c1c1c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1c1c1c"/>
                </a:solidFill>
                <a:latin typeface="標楷體"/>
                <a:ea typeface="標楷體"/>
              </a:rPr>
              <a:t>低年級的學生時可選擇一些較短的詩歌童謠，令學生作一些肢體活動，扮演課文描述的動作，逐漸加入人物對話演出。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1c1c1c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1c1c1c"/>
                </a:solidFill>
                <a:latin typeface="標楷體"/>
                <a:ea typeface="標楷體"/>
              </a:rPr>
              <a:t>完全沒有演出經驗或低年級的學生，開始時以角色扮演、演繹人物會較容易，逐漸鼓勵學生改編或豐富情節。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1c1c1c"/>
                </a:solidFill>
                <a:latin typeface="標楷體"/>
                <a:ea typeface="標楷體"/>
              </a:rPr>
              <a:t>3.</a:t>
            </a:r>
            <a:r>
              <a:rPr b="0" lang="zh-TW" sz="3600" spc="-1" strike="noStrike">
                <a:solidFill>
                  <a:srgbClr val="1c1c1c"/>
                </a:solidFill>
                <a:latin typeface="標楷體"/>
                <a:ea typeface="標楷體"/>
              </a:rPr>
              <a:t>所有課文都可以戲劇形式處理，但故事性較強的課文學生較易掌握，因為有人物、情節。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1c1c1c"/>
                </a:solidFill>
                <a:latin typeface="標楷體"/>
                <a:ea typeface="標楷體"/>
              </a:rPr>
              <a:t>4.</a:t>
            </a:r>
            <a:r>
              <a:rPr b="0" lang="zh-TW" sz="3600" spc="-1" strike="noStrike">
                <a:solidFill>
                  <a:srgbClr val="1c1c1c"/>
                </a:solidFill>
                <a:latin typeface="標楷體"/>
                <a:ea typeface="標楷體"/>
              </a:rPr>
              <a:t>演出時，從討論劇本、安排角色、設計佈景與道具，都需要學生合作和靈活運用創意。教師以從旁協助的方式，指導學生分工合作，亦可適當地介入，以老師入戲的方式發問或提供意見。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424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1c1c1c"/>
                </a:solidFill>
                <a:latin typeface="標楷體"/>
                <a:ea typeface="標楷體"/>
              </a:rPr>
              <a:t>5.</a:t>
            </a:r>
            <a:r>
              <a:rPr b="0" lang="zh-TW" sz="4000" spc="-1" strike="noStrike">
                <a:solidFill>
                  <a:srgbClr val="1c1c1c"/>
                </a:solidFill>
                <a:latin typeface="標楷體"/>
                <a:ea typeface="標楷體"/>
              </a:rPr>
              <a:t>道具或服裝可增加學生的投入感，但不一定要耗費大量資源，可鼓勵學生發揮創意，以簡單的資源或隨手可得的東西製作，如用硬咭紙自製佈景或服裝，或利用課室原有的設備，如黑板，桌椅等。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2184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1c1c1c"/>
                </a:solidFill>
                <a:latin typeface="標楷體"/>
                <a:ea typeface="標楷體"/>
              </a:rPr>
              <a:t>6.</a:t>
            </a:r>
            <a:r>
              <a:rPr b="0" lang="zh-TW" sz="4000" spc="-1" strike="noStrike">
                <a:solidFill>
                  <a:srgbClr val="1c1c1c"/>
                </a:solidFill>
                <a:latin typeface="標楷體"/>
                <a:ea typeface="標楷體"/>
              </a:rPr>
              <a:t>儘量將劇本分場分組演出，讓更多學生有機會參與。</a:t>
            </a:r>
            <a:r>
              <a:rPr b="0" lang="zh-TW" sz="4000" spc="-1" strike="noStrike">
                <a:solidFill>
                  <a:srgbClr val="1c1c1c"/>
                </a:solidFill>
                <a:latin typeface="Arial"/>
                <a:ea typeface="標楷體"/>
              </a:rPr>
              <a:t>鼓勵學生發揮創意，自行創造角色，讓更多同學參與。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1c1c1c"/>
                </a:solidFill>
                <a:latin typeface="標楷體"/>
                <a:ea typeface="標楷體"/>
              </a:rPr>
              <a:t>7.</a:t>
            </a:r>
            <a:r>
              <a:rPr b="0" lang="zh-TW" sz="4000" spc="-1" strike="noStrike">
                <a:solidFill>
                  <a:srgbClr val="1c1c1c"/>
                </a:solidFill>
                <a:latin typeface="標楷體"/>
                <a:ea typeface="標楷體"/>
              </a:rPr>
              <a:t>學生在演出時會較興奮，教師要較開放，接受一定的嘈吵，只要動而有節。 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8592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參考閱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Spolin, V.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著，區曼玲譯（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1998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）：《劇場遊戲指導手册》，台北，書林出版有限公司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林玫君（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2005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）：《創造性戲劇理論與實務：教室中的行動研究》，台北，心理出版社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張曉華（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2004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）：《教育戲劇理論與發展》，台北，心理出版社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彭玉文等主編（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2001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）：《課室變法──創造劇與教育戲劇實踐》，香港，香港教育專業人員協會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葛琦霞（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2002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）：《教室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VS.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劇場　好戲上場囉》，台北，信誼基金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ff"/>
                </a:solidFill>
                <a:latin typeface="Verdana"/>
                <a:ea typeface="標楷體"/>
              </a:rPr>
              <a:t>自我介紹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6699"/>
                </a:solidFill>
                <a:latin typeface="Verdana"/>
                <a:ea typeface="標楷體"/>
              </a:rPr>
              <a:t>通常作為一般戲劇活動的開場，透過彼此的介紹，能使參與者產生安全感，更能將自己認屬於團體中的一分子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Verdana"/>
                <a:ea typeface="標楷體"/>
              </a:rPr>
              <a:t>例如：姓名動作（各人輪流報上自己的名字再加上一個動作）、姓名傳球。</a:t>
            </a: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256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標楷體"/>
                <a:ea typeface="標楷體"/>
              </a:rPr>
              <a:t>身心放鬆（</a:t>
            </a:r>
            <a:r>
              <a:rPr b="0" lang="zh-TW" sz="4000" spc="-1" strike="noStrike">
                <a:solidFill>
                  <a:srgbClr val="3333ff"/>
                </a:solidFill>
                <a:latin typeface="標楷體"/>
                <a:ea typeface="標楷體"/>
              </a:rPr>
              <a:t>relaxation</a:t>
            </a:r>
            <a:r>
              <a:rPr b="0" lang="zh-TW" sz="4000" spc="-1" strike="noStrike">
                <a:solidFill>
                  <a:srgbClr val="3333ff"/>
                </a:solidFill>
                <a:latin typeface="標楷體"/>
                <a:ea typeface="標楷體"/>
              </a:rPr>
              <a:t>）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以調節性增強或減弱的動作熱身，消除緊張、穩定情緒，並加強知覺訓練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可在戲劇活動的開始或結束時使用，讓學生在平穩的心情下開展戲劇活動，或收斂在戲劇活動中使用的精力，二者都可以達到穩定情緒的效果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例如控制呼吸、來回走動、縮緊或放鬆自己的身體、吹羽毛、甚至是集體想像的活動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75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356840" y="117360"/>
            <a:ext cx="692172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標楷體"/>
                <a:ea typeface="標楷體"/>
              </a:rPr>
              <a:t>專注（</a:t>
            </a:r>
            <a:r>
              <a:rPr b="0" lang="zh-TW" sz="4400" spc="-1" strike="noStrike">
                <a:solidFill>
                  <a:srgbClr val="3333ff"/>
                </a:solidFill>
                <a:latin typeface="標楷體"/>
                <a:ea typeface="標楷體"/>
              </a:rPr>
              <a:t>concentration</a:t>
            </a:r>
            <a:r>
              <a:rPr b="0" lang="zh-TW" sz="4400" spc="-1" strike="noStrike">
                <a:solidFill>
                  <a:srgbClr val="3333ff"/>
                </a:solidFill>
                <a:latin typeface="標楷體"/>
                <a:ea typeface="標楷體"/>
              </a:rPr>
              <a:t>）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435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6699"/>
                </a:solidFill>
                <a:latin typeface="標楷體"/>
                <a:ea typeface="標楷體"/>
              </a:rPr>
              <a:t>集中注意力在一個目標上，使學生能精確地觀察各種狀況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6699"/>
                </a:solidFill>
                <a:latin typeface="標楷體"/>
                <a:ea typeface="標楷體"/>
              </a:rPr>
              <a:t>利用人體的五官感覺，如聽、視、觸、嗅、味覺去對單一情境作集中精神的訓練，有效的將學生融入教學情境中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如：</a:t>
            </a: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千面女郎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7807320" y="5013360"/>
            <a:ext cx="11811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09600" y="117360"/>
            <a:ext cx="69264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標楷體"/>
                <a:ea typeface="標楷體"/>
              </a:rPr>
              <a:t>肢體動作（</a:t>
            </a:r>
            <a:r>
              <a:rPr b="0" lang="zh-TW" sz="4000" spc="-1" strike="noStrike">
                <a:solidFill>
                  <a:srgbClr val="3333ff"/>
                </a:solidFill>
                <a:latin typeface="標楷體"/>
                <a:ea typeface="標楷體"/>
              </a:rPr>
              <a:t>movement</a:t>
            </a:r>
            <a:r>
              <a:rPr b="0" lang="zh-TW" sz="4000" spc="-1" strike="noStrike">
                <a:solidFill>
                  <a:srgbClr val="3333ff"/>
                </a:solidFill>
                <a:latin typeface="標楷體"/>
                <a:ea typeface="標楷體"/>
              </a:rPr>
              <a:t>）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99"/>
                </a:solidFill>
                <a:latin typeface="Verdana"/>
                <a:ea typeface="標楷體"/>
              </a:rPr>
              <a:t>在有結構、目標、計畫的指導下，配合音律、舞蹈等美感的肢體活動，明確而有意義表現出適宜的動作與舉止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99"/>
                </a:solidFill>
                <a:latin typeface="Verdana"/>
                <a:ea typeface="標楷體"/>
              </a:rPr>
              <a:t>學生開放自己的身體，同時觀察他人運用身體表現的情形，彼此接納，不僅認知自我也覺察他人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Verdana"/>
                <a:ea typeface="標楷體"/>
              </a:rPr>
              <a:t>例如：鏡中人、小組扮演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7667640" y="404640"/>
            <a:ext cx="1081080" cy="8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6408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Verdana"/>
                <a:ea typeface="標楷體"/>
              </a:rPr>
              <a:t>依據書本的描述，做出肢體動作和表情：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99"/>
                </a:solidFill>
                <a:latin typeface="Verdana"/>
                <a:ea typeface="標楷體"/>
              </a:rPr>
              <a:t>咯咯咯的笑、笑到肚子痛、笑到尖叫、笑到發抖、笑到肚子痛、裝死、湊過去聞來聞去、戳戳身體、叼著他晃來晃去、哇哇大哭、嚇得笑不出來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6948360" y="765000"/>
            <a:ext cx="1765440" cy="223236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7341120" y="6491160"/>
            <a:ext cx="14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葛琦霞（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877080" y="3068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慶子．凱薩茲著，林芳萍譯，三之三出版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8:49:49Z</dcterms:created>
  <dc:creator>HKIEd</dc:creator>
  <dc:description/>
  <dc:language>en-US</dc:language>
  <cp:lastModifiedBy>HKIEd</cp:lastModifiedBy>
  <dcterms:modified xsi:type="dcterms:W3CDTF">2008-05-16T01:43:40Z</dcterms:modified>
  <cp:revision>32</cp:revision>
  <dc:subject/>
  <dc:title>創作性戲劇</dc:title>
</cp:coreProperties>
</file>